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8B8C-F322-4754-B5A5-3AFB5B827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1A35-4C26-48C8-9112-30F9E35CC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336B-E9F1-4645-8235-A5D9A5447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FE6B-2737-4E5C-A1E0-45F27026D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7014-A097-479B-A183-853703AE1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54EF-398D-4C27-A8A2-BD720303B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47DA-DDBB-4189-97F3-7D47A12CE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280D-EBC4-491A-9E4D-1271D1560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87FE-3F75-4FD0-AE7E-D2441A18A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B493-C504-47F2-B784-F60C4AF5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8E21-710E-4B27-BF67-51202180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9C9D-0357-4645-8BAF-D766D6D3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5F7D0C-CD86-4A03-816B-0FFF7B9F08A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47434c" descr=""/>
          <p:cNvPicPr/>
          <p:nvPr/>
        </p:nvPicPr>
        <p:blipFill>
          <a:blip r:embed=""/>
          <a:stretch/>
        </p:blipFill>
        <p:spPr>
          <a:xfrm>
            <a:off x="0" y="-179280"/>
            <a:ext cx="10080720" cy="774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 RAPOSA E O LE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113440" y="1800000"/>
            <a:ext cx="4425840" cy="49892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Tinha a raposa sua cova bem fechada, e estava-se dentro gemendo, porque estava enferm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renards-06" descr=""/>
          <p:cNvPicPr/>
          <p:nvPr/>
        </p:nvPicPr>
        <p:blipFill>
          <a:blip r:embed=""/>
          <a:stretch/>
        </p:blipFill>
        <p:spPr>
          <a:xfrm>
            <a:off x="900000" y="1979640"/>
            <a:ext cx="3600720" cy="43196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 fill="hold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hegou a porta um Leão e perguntou-lhe como estava e que lhe abrisse , por que queria lamber, que tinha virtude na língua, e ele lambendo-a , logo havia de sar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gifs-leao1" descr=""/>
          <p:cNvPicPr/>
          <p:nvPr/>
        </p:nvPicPr>
        <p:blipFill>
          <a:blip r:embed=""/>
          <a:stretch/>
        </p:blipFill>
        <p:spPr>
          <a:xfrm>
            <a:off x="1260360" y="1800360"/>
            <a:ext cx="3419640" cy="45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4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spondeu a raposa de dentro:Não posso abrir, nem quero: creio que tem virtude sua língua, porém é tão má vizinhança as dos dentes, que tenho tanto medo e portanto quero antes sofrer-me com meu m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renards-16" descr=""/>
          <p:cNvPicPr/>
          <p:nvPr/>
        </p:nvPicPr>
        <p:blipFill>
          <a:blip r:embed=""/>
          <a:stretch/>
        </p:blipFill>
        <p:spPr>
          <a:xfrm>
            <a:off x="720720" y="1800360"/>
            <a:ext cx="4500720" cy="50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dur="indefinite" fill="hold">
                      <p:stCondLst>
                        <p:cond delay="indefinite"/>
                      </p:stCondLst>
                      <p:childTnLst>
                        <p:par>
                          <p:cTn id="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dur="indefinite" fill="hold">
                      <p:stCondLst>
                        <p:cond delay="indefinite"/>
                      </p:stCondLst>
                      <p:childTnLst>
                        <p:par>
                          <p:cTn id="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0000"/>
                </a:solidFill>
                <a:latin typeface="Arial"/>
              </a:rPr>
              <a:t>Moral da História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estem atenção no que lhe oferecem como coisa boa, por que elas podem lhe custar muito mais caro do que você imag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618000" y="4140360"/>
            <a:ext cx="2503440" cy="250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21:49:50Z</dcterms:created>
  <dc:creator/>
  <dc:description/>
  <dc:language>en-US</dc:language>
  <cp:lastModifiedBy/>
  <dcterms:modified xsi:type="dcterms:W3CDTF">2010-11-25T22:59:19Z</dcterms:modified>
  <cp:revision>1</cp:revision>
  <dc:subject/>
  <dc:title/>
</cp:coreProperties>
</file>